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510-D434-44AA-93A7-C1FE0241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928-C174-4359-8F06-772BF8C4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4ED-53EA-4191-9F94-10A331B2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FEC-3AA7-4C15-932A-A0D6A185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F95-1AC7-4B77-A973-14FF5EA0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823-FF3F-43AF-B325-6EC0D190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635-66A1-4F34-84DD-2B40CC96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ED2-0403-4402-AFD4-7D425C8A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99E-9CCD-4113-8AB9-D5D3B31D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4D1-6BB9-46CB-BE5B-005D3DD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819-4F04-4414-AE34-93664204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ECC-9A43-44D1-9512-616E42F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ED5B-9BC0-4F47-B3A0-32958A35E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re Part B Therapy, 1998-2000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ends in Utilization and Medic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2666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y Kay,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tioner and Ambulatory Care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s for Medicare and Medicaid Servi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timore,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anie Maxwell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ban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1143000" cy="6858000"/>
            <a:chOff x="0" y="0"/>
            <a:chExt cx="1143000" cy="68580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"/>
            <p:cNvGraphicFramePr/>
            <p:nvPr/>
          </p:nvGraphicFramePr>
          <p:xfrm>
            <a:off x="0" y="0"/>
            <a:ext cx="1143000" cy="11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14300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 rot="5400000">
              <a:off x="-1297440" y="2552040"/>
              <a:ext cx="37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URBAN INSTITU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1: Part B therapy patient average annual expenditure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: Part B therapy patient annual utilization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3: Distribution of Part B therapy expenditures and patients, by setting,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360" y="1525680"/>
          <a:ext cx="437832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5680"/>
                    <a:ext cx="437832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384800" y="1523880"/>
          <a:ext cx="4378320" cy="355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4800" y="1523880"/>
                    <a:ext cx="437832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584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expendi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7832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4: Distribution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160" y="1109520"/>
          <a:ext cx="40766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109520"/>
                    <a:ext cx="40766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40080" y="3505320"/>
          <a:ext cx="4075200" cy="27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0080" y="3505320"/>
                    <a:ext cx="407520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78360" y="1143000"/>
          <a:ext cx="4075200" cy="277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8360" y="1143000"/>
                    <a:ext cx="407520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9560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9572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400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5: Percent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6: Distribution of total PT/SLP expenditures of patients exceeding $1,200 PT/SLP annually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" y="6276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Figure includes patients using facility-based therapy.  PT is physical therapy. SLP is speech/language pathology 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51:36Z</dcterms:created>
  <dc:creator>Matthew Storeygard</dc:creator>
  <dc:description/>
  <dc:language>en-US</dc:language>
  <cp:lastModifiedBy>CMS</cp:lastModifiedBy>
  <cp:lastPrinted>2001-11-12T15:07:12Z</cp:lastPrinted>
  <dcterms:modified xsi:type="dcterms:W3CDTF">2003-01-29T17:08:33Z</dcterms:modified>
  <cp:revision>64</cp:revision>
  <dc:subject/>
  <dc:title>Vulnerability Status by Age, 1996</dc:title>
</cp:coreProperties>
</file>